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5C3-29AA-47C8-8146-DD6ECE54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F0E-8C8C-4111-AF51-AD4AD483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E40-65E4-44C5-A81D-5DB3BF09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768-6769-41CC-99B9-0E25C10D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90C2-920E-42FC-9514-B4675866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940D-F231-459D-AA14-78CC5A4E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9E18-9DD5-489B-92FB-7F047D64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00FA-A0FE-4B12-9427-96EAD0BE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0FC3-4C3C-4751-89B6-FA1F3674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A9C5-8953-4F83-B0D5-BD79DCFE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0E7A-3737-4D99-9E9C-41FE85CA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C01-A753-474E-84A7-0F92F0AD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FA2B-D70C-4D16-BC8A-E0ACADD0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502B-F912-4302-8CBC-DE4686C5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B978-421D-4AB8-9CC7-945C59BB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1242-C15A-45C7-ABE8-25670D21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8FF0-4FF0-48C9-8B74-39F06A58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237-636F-4175-9D2D-9E41441A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BBD8-BFC4-4308-A7D2-C80A4BF1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0C5-FABD-4A85-B161-6A02BA9B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65A-17B5-405D-9CFE-78292A46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1DE-AEEC-44B3-9A15-05C00675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377-46F3-4F0C-A59E-19D6C4F0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B24-A165-4983-8E17-9D72DA2B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35AE-4F1C-455B-ABAE-BE16A08B488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C1A6-E8AA-4895-B492-AF4EB22AE37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ug. 3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glish-Fun Stuf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rs. Hampton here to talk to yo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un 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un writing assig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ons of organisms live in and on our odies, the human armpit for instence has up to 500 million bacteria in the space of a tiny insignificant pinhe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ench author George Sand born July 1 1804 was a well known rebel for the following reasons among others she dressed in mens clothes and smoked ciga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ngible:touch::audible:_________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x:Sly_________:w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oun Revie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she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ing assig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3:07:55Z</dcterms:created>
  <dc:creator>VMS</dc:creator>
  <dc:description/>
  <dc:language>en-US</dc:language>
  <cp:lastModifiedBy>VMS</cp:lastModifiedBy>
  <dcterms:modified xsi:type="dcterms:W3CDTF">2009-08-31T13:19:43Z</dcterms:modified>
  <cp:revision>2</cp:revision>
  <dc:subject/>
  <dc:title>Aug. 31</dc:title>
</cp:coreProperties>
</file>